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31C-8A76-4B21-9BF6-5CDC6EA1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FF2-C3CF-44DD-BA13-E6CFB941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843-9056-4C70-9FDD-E27012EE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4A1-1725-462F-8AD3-FC845C3D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1B0-25AC-411A-A0DB-8B4510A3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C8D-9928-469B-A547-853E1C39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554-8D9E-4342-94B8-B97E694F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F18-3D38-412E-B47F-8F9E07C4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1EC-FBAC-492F-83A9-3131C78C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10F-A494-4C52-9167-CB9F19A3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62F-93D0-48BD-A058-1EE6CCC4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6D4-5178-419E-9CCC-518E2A7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334B-250C-443F-A949-2363C4A50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в соответствии с ФГОС Д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21480" y="4508640"/>
            <a:ext cx="273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итель: Фролова Ольга Валерьевна, методист методического отдела МБУ ДО «ЦД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ехнология разработки календарных план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ий алгоритм — кан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чинать написание плана с режимных моментов: утро; день; вечер; минимум на две недел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формление плана должно соответствовать эстетическим требованиям, так как это визитная карточка ДО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ывать соотношение нагрузки детей: эмоциональной; интеллектуальной; физичес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ывать степень усложнения материала (нельзя математику сочетать с занятиями физической культуры — очень высокий расход белка в организме при высокой интеллектуальной и физической деятельност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тветствие программно-методическому обеспеч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ключать все виды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слеживать усложнение приемов, не только наглядных и словесных, но и таких, как коллективный поиск, беседа, развивающие иг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уществует несколько важных условий, которые педагогам необходимо соблюдать при планировании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ъективная оценка уровня своей работы в момент планирова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деление целей и задач планирования на определенный период работы, соотнесение их с примерной общеобразовательной программой дошкольного образования, по которой организуется воспитательно-образовательный процесс, возрастным составом группы детей и приоритетными направлениями образовательного процесса в ДОО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еткое представление результатов работы, которые должны быть достигнуты к концу планируемого период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бор оптимальных путей, средств, методов, помогающих добиться поставленных целей, а значит получить планируемый результа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ОУ используютс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ормы планирования: годовой и календарный пла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радиционно Педагогами используются таки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иды планирова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ендарно-тематическо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пективно-календарно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очное, комплексно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м видом является модульное план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одульное планирование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ывает особенности работы современного дошкольного учреждения и состоит из трех взаимосвязанных разделов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ерспективно-календарное планировани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уществление преемственности между ДОО и школо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вязь со специалистами дошкольного образования и общественными организациям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планированию подключается и педагогическая диагностика для оценки достижений детей, результативности педагогических усилий, коррекции уровня развити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лексно-тематический принци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лексный подход, обеспечивающий взаимосвязь всех звеньев и сторон педагогического процес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роение педагогического процесса с опорой на взаимодействие, партнерство взрослого с деть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ьный учет особенностей региона, обстановки, сезона возраста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бирается тема, ее временной отрезо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е формы образовательной деятельности организуются в контексте выбранную тем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родителей предлагаются краткие рекомендации по организации совместной детско-взрослой деятельности в домашних условиях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ая тема заканчивается проведением итогового мероприятия (выставка, праздник, спортивное развлечение, сюжетно-ролевая игра, спектакль и т.д.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лжен быть определен оптимальный вариант учебной нагрузки детей. Недопустима информационная перегрузка. Существуют четкие рамки содержания (стандарт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лжны быть учтены медико-гигиенические требования к последовательности, длительности, особенностям проведения различных режимных процесс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тены местные региональные особенности (климат, природные условия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тены время года и погодные услов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усматривайте в плане чередования организованной и самостоятельной деятельности детей. Свободная деятельность должна составлять не менее 40% от объема регламентированной деятельности, в том числе на воздухе 3—4 часа в течение дня в зависимости от времени года. Обязательное выделение времени для свободной игры в детском са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3640" y="1268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ет изменения работоспособности детей в течение недели при планировании занятий и требований к их сочетаем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ет уровня развития детей. Использование результатов диагностики для оптимизации образовательного процесса, планирования индивидуальной работы с каждым ребенк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пременная взаимосвязь процесса воспитания, обучения и развит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улярность, последовательность, повторность воспитательных воздейств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ключение элементов деятельности, способствующих эмоциональной разрядке, создающих у ребят радостное настроение, доставляющих им удовольствие. Учет эффектов «начала и конца» при распределении их в течение недел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170028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ланирование строится на основе интеграции усилий всех специалистов, работающих в группе с детьми. Необходимо учитывать рекомендации специалис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ланируемая деятельность не навязывается детям искусственно, а обязательно соответствующим образом мотивируется. Дети должны испытывать потребность заняться чем-либо, захотеть понять, для чего им это над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едует предусмотреть разнообразие предлагаемой деятельности, чтобы способствовать максимально возможному раскрытию потенциала каждого малыш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планируемой педагогом деятельности с детьми должны просматриваться решаемые ДОУ годовые задач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лжна быть прослежена работа с родителя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1300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отрудничество с родителями может быть расписано в различных формах провед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ультации (индивидуальные, групповые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еминары-практикум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матические выставк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пизодические беседы с родителям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местные праздник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лечения и досуг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кетировани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дительские посиделк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кскурси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уристические поход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астие родителей в общественной жизни группы и проче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ланирование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основой образовательного процесс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лан —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оект педагогической деятельности всех участников образовательного процесс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ланирование 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научно обоснованная организация педагогического процесса ДОО, которая придает ему содержательность, определенность, управляем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вместная деятельность взрослых и дете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дивидуальный диалог с каждым ребенком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вместная двигательная деятельность (на улице, в группе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ение или рассказывани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идактические упражнения, развивающие игр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ворческие игр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блюдения (в группе, на воздухе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сихогимнастика, упражнения на релаксацию, театр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руд (различные виды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художественно-продуктивная деятельность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узык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навательная пятиминут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ланирование по принципу режимных временных отрезк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ланирование утреннего отрезка време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содержанию утренний отрезок времени включае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гровую деятельность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еседы с детьм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матривание предметов и иллюстраций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роткие наблюдения в природе и явлений общественной жиз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ланирование прогул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режиме дня каждой возрастной группы предусмотрено проведение двух прогулок: утренней и вечерней (не считая утреннего приема детей на воздухе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прогулки в первую половину дня — восстановить силы после занятий, получить максимальный положительный за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гулка должна дать разрядку ребенку, снять напряжение после занятий и создать у него жизнерадостное настроение, что в свою очередь обеспечивает соответствующий тонус для успешного физического и психического развития ребенка в иных условиях и видах деятель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ланирование второй половины дн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 дневного сна хорошо планировать и трудовую деятельность детей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борку групповой комнат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монт книг, пособий, настольно-печатных игр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ирку кукольного белья, носовых платков, лент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готовление игрушек-самоделок для своих игр и для игр малыш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комендуется также устраивать и различные зрелищные мероприятия, развлечения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укольный, настольный, теневой театр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нцерт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ортивные, музыкальные и литературные досуг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ушание аудиокассет и многое друг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ование должно опираться не только на задачи, возрастные особенности, специфику деятельности, но и на успешность освоения детьми предыдущего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этого педагогам рекомендуется вести в свободной форме дневниковые записи, отмечая как личные успехи детей, так и возникшие пробл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кументацию воспитателя можно разделить на обязательную и рекомендуем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язательная документа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организации воспитательно-образовательного процесса включает в себ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ендарный план воспитательно-образовательной рабо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ель посещаемости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ильно составленный план работы вносит ясность, предсказывает трудности, экономит время, повышает ответственность, облегчает работ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лан — не просто отчетный документ, главное в нем — рабочая ценность, заблаговременный преднамеренный подбор содержания и форм предстоящей работы с детьми, четкие ориентиры в использовании служебного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ым условием успешного планирования является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твердое знание программ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о знание программы не является единственным условием успешного планирова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оспитатель должен хорошо знать детей своей групп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изучать каждого ребенка в динамике е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спешно спланировать работу воспитателю помогут также методические пособия, рекомендации, полученные на педсовете, методическом объединении, курсах и проче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им условием успешного планировани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местное составление плана двумя воспитателями, работающими в одной возрастной групп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ение этого условия обеспечит единый подход к детям, единые требования к ним, повысит ответственность каждого воспитателя за выполнение плана и програм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лендарный план составляется на основе годового и перспективного и дорабатывается с учетом наблюдений за детьми в группе и их оценки, а также обсуждений с другими воспитателями и бесед с родителям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лендарный план пишется на каждый день или на неделю и включает различные виды деятельности на этапах ознакомления, освоения и закрепления, практического применения зна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любого планирования лежат следующие принцип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 конкретных педагогических условий, возрастного состава группы, уровня развития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т процесса воспитания и об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улярность, последовательность, цикличность воспитательных воздейст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ирование образователь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68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иболее встречаемые недостатки и ошибки в календарных планах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учаи отсутствия у воспитателей планов работы, а ведь это основной документ воспитател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место планов предоставлена циклограмма работы на месяц или на неделю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груженность (недогруженность) план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сутствие дат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исана организованная деятельность, а про совместную и самостоятельную деятельность нет даже упомина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сутствие взаимосвязи разных видов деятельности (игра—труд—обучени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пуск или нерегулярность какого-либо раздела програм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лендарные планы представлены в виде перспективны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т указаний, в какие режимные моменты что и кем проводитс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т сноски на литературу, страниц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прописывается индивидуальная работа с деть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8T08:13:12Z</dcterms:created>
  <dc:creator>дш-2</dc:creator>
  <dc:description/>
  <dc:language>en-US</dc:language>
  <cp:lastModifiedBy>OlgaF</cp:lastModifiedBy>
  <dcterms:modified xsi:type="dcterms:W3CDTF">2022-11-10T08:35:15Z</dcterms:modified>
  <cp:revision>18</cp:revision>
  <dc:subject/>
  <dc:title>Планирование образовательной деятельности в соответствии с ФГОС ДО</dc:title>
</cp:coreProperties>
</file>